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693-D91A-48B2-9B54-3833534E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6D9-6070-481A-837B-90466A1D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B28-FB9B-48B2-AC96-E9470F9C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F25-4273-4111-B478-CD6784EB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93F3-3043-4315-8D29-1BC45695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0296-BC9E-4C30-B0F3-BBC3F9AD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466F-B264-4DAD-8B28-64EA8147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70B7-2A4F-4D41-9FAA-3A31D744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2712-EDC6-41CE-8AB9-842639CC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43C4-3D7C-4703-991C-BFAF3BD9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4DAF-FC73-4B23-9677-E97C9F3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06F-A190-4648-895C-6381F742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9913-B854-440B-A906-82B143E2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3A31-E4CD-44A7-9118-51DB5BC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4AC9-C45D-4C62-9332-FC6674F6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DF75-000D-4E98-B0E7-8A3B2CB3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EEE3-BDF4-460A-B946-CCFF858E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00D-8421-4AEA-9B56-6C0D7A7A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41A-9CA7-45E5-A3A6-881696D6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279-DF20-4DC1-A9C0-A3A736F9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369-BA8B-445B-A526-3F13C381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A3D-B83F-4125-A9EA-06AF17E2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AA2-81AC-4DA4-84CE-87A10663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FF2-9608-4B84-845B-1BA7611B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11CF-B5FB-40CD-BE75-BB06CD054E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4B0D-6276-4F49-9D6C-E4F29E6898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ose" TargetMode="External"/><Relationship Id="rId2" Type="http://schemas.openxmlformats.org/officeDocument/2006/relationships/hyperlink" Target="http://en.wikipedia.org/wiki/Nose" TargetMode="External"/><Relationship Id="rId3" Type="http://schemas.openxmlformats.org/officeDocument/2006/relationships/hyperlink" Target="http://en.wikipedia.org/wiki/Nose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ire Up the Old Honker!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Cole Slup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4648320"/>
            <a:ext cx="1620720" cy="20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629400" y="4495680"/>
            <a:ext cx="18478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sible Causes of Error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one could have stated one of the products. Someone could have peeked. People could have been sick and their nose could have been plugg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035680"/>
            <a:ext cx="1736640" cy="1822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19720" y="4114800"/>
            <a:ext cx="20620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knowledgement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tt Delli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an Wal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rdan Prof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in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ron F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chel Vess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lsey Riff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i Do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rah Whee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ia Fergu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lon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820880" cy="1139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934320" y="5638680"/>
            <a:ext cx="1838160" cy="989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477120" y="1752480"/>
            <a:ext cx="1819080" cy="51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733920" y="5715000"/>
            <a:ext cx="1828800" cy="790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733920" y="3352680"/>
            <a:ext cx="1811160" cy="57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6705720" y="2819520"/>
            <a:ext cx="1771560" cy="180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3733920" y="4343400"/>
            <a:ext cx="1814400" cy="109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457200" y="1066680"/>
            <a:ext cx="181296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itation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en.wikipedia.org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/wiki/N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faculty.washington.edu/chudler/nosek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kidshealth.org/kid/htbw/nose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ime spent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/10/10 1 h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/15/10 30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/16/10 45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: 2 ½ h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8526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gender affect the sense to smell common household item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91120" y="3657600"/>
            <a:ext cx="181584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 ever smelled something that you know what it is but you can’t name it? I have too, everyone has. I want to find out if girls can tell the smell better than boy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19920" y="4267080"/>
            <a:ext cx="1633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girls will smell the products bet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060880"/>
            <a:ext cx="1521000" cy="1797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1873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bing Alcoh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basco Sa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BQ Sa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ton B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903240" cy="184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368960" y="2968560"/>
            <a:ext cx="404640" cy="91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943600" y="3505320"/>
            <a:ext cx="6001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ll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common household items such as cleaners, foods, or fresheners, and put them on a cotton b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subjects blindfol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all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214632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riable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: Subject’s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t: Results of identifying the sm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ed: The subject can smell as much as they need to.  All of the same smells will be used a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rls 4.4:8   or    5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ys 3.8: 8  or    47.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ypothesis was correct according to the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43400" y="4267080"/>
            <a:ext cx="36813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jor observation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stances changed smell after sitting for a few days. A lot of people knew the smells but couldn’t name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37:14Z</dcterms:created>
  <dc:creator>USD376</dc:creator>
  <dc:description/>
  <dc:language>en-US</dc:language>
  <cp:lastModifiedBy>USD376</cp:lastModifiedBy>
  <dcterms:modified xsi:type="dcterms:W3CDTF">2011-01-19T15:22:18Z</dcterms:modified>
  <cp:revision>4</cp:revision>
  <dc:subject/>
  <dc:title>Fire Up the Old Honker!</dc:title>
</cp:coreProperties>
</file>